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2825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E8F-8635-4BCE-82E3-2725EA47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57F-4ECD-4068-BECF-36902EB4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C21-4424-4174-84D8-4949DCDE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1B8-B73D-473B-827E-8D06065F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0DC-B5B1-45E8-B3A8-43631679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B9F-B5B9-4081-B7C2-CDA44797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C69-DDC9-4C76-87B7-B009E690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5D0-42F9-470C-98EE-3160E4BB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109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268-D7E0-48B6-A303-C6868430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A48-2735-4386-91FC-7F2F1E37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6AC-3E96-41A0-AD01-37284D76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C02-8E8B-48A4-AAFF-1FBAA2ED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6360"/>
            <a:ext cx="206352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6360"/>
            <a:ext cx="313704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5600" y="6246360"/>
            <a:ext cx="206388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165639FC-5485-4F5D-99AB-D4364ED5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416800" cy="71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Bank and Trust Company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Trust Company (Cayman)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SATIONAL CHART as of Nov 1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4120" y="3048120"/>
          <a:ext cx="829152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3048120"/>
                    <a:ext cx="829152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90440" y="857160"/>
            <a:ext cx="15858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L. Lowell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8920" y="857160"/>
            <a:ext cx="1586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xecutive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89320" y="857160"/>
            <a:ext cx="15876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les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67360" y="785880"/>
            <a:ext cx="1333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Trus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Humphre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3160" y="785880"/>
            <a:ext cx="1968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Private Label Funds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0480" y="6000840"/>
            <a:ext cx="374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 A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# B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@ Member Local Managemen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8920" y="2428920"/>
            <a:ext cx="14590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TRA-AL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1440" y="2428920"/>
            <a:ext cx="139680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Spinn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7440" y="2428920"/>
            <a:ext cx="12682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PR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27880" y="6286680"/>
            <a:ext cx="15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d Count: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4:30:21Z</dcterms:created>
  <dc:creator>J.B.B.T</dc:creator>
  <dc:description/>
  <dc:language>en-US</dc:language>
  <cp:lastModifiedBy>Rudolf</cp:lastModifiedBy>
  <cp:lastPrinted>2000-10-27T14:38:22Z</cp:lastPrinted>
  <dcterms:modified xsi:type="dcterms:W3CDTF">2004-01-28T20:47:55Z</dcterms:modified>
  <cp:revision>4</cp:revision>
  <dc:subject/>
  <dc:title>Julius Baer Bank and Trust Company Ltd. Julius Baer Trust Company (Cayman) Ltd. ORGANISATIONAL CHART as of Oct 1, 2000</dc:title>
</cp:coreProperties>
</file>